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139-6C5F-491F-A0FB-C977FC06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4CF-BC58-47B1-9293-86448986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0DE-F70C-499F-8A97-7214D1E8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093-5865-4AD5-8D0D-C9450360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CF0D-5DFA-4E84-AF99-7B2EEBA9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3E26-CA01-4E41-A05F-132FAFC5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10EC-E65E-4201-8DC2-6A9538AE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7659-A241-40BC-9847-EF4C5716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D84E-730C-4A7E-9156-0F8DD713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A56A-25A9-44DB-AEDE-DDA68156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F24B-689F-4D6A-8A8B-6F7AA4D2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E3A-FD50-4BD3-A97A-D6D76844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8911-AE84-4F38-BF5C-18C629C4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23F7-771A-4820-91DF-CF4EA07A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5BEC-550A-474B-A029-A3CC7920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0E0B-9495-4FF2-B279-809CA6C6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7922-9C48-4084-BA78-C04E36C6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0FC-B55E-4B62-AF13-D91F2178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629-FC5A-4FFF-9843-093AADCB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B593-02E7-48EE-9C89-C38A942B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17A-A90E-47EF-BE5D-F29990D2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913-477D-4EE9-BD0E-A7BD3830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93B-3FA7-4A80-835C-89EAF54A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562-FA29-4DB0-951D-AF754735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3CF1-1039-457D-9A99-9302384572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586E-4F94-455A-8EDD-40AFD1364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7440" y="2147760"/>
            <a:ext cx="6496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n indeterminate troponin really mean?...</a:t>
            </a:r>
            <a:r>
              <a:rPr b="0" lang="en-US" sz="3200" spc="-1" strike="noStrike">
                <a:solidFill>
                  <a:srgbClr val="add9f5"/>
                </a:solidFill>
                <a:latin typeface="Arial"/>
              </a:rPr>
              <a:t>other than another 3am rule out  ACS ad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0200" y="4411800"/>
            <a:ext cx="4114800" cy="20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mie Navel, 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3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on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 Costa Regional Medical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l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standardized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denotes a non coronary artery disease pathology that does not require cardiac cath or anti-thrombotic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nds gentler and is often explained away but does have prognostic impor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 strategies are varied based on the underlying pathology and goal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terminate Tropon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5 (0.07)-0.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outpatient clinical significance in providing marker of increased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rule out concurrent CAD but clinical suspicion and risk factors are very important in guiding initial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 should be indentified and treatment based on treating underlying pat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agnosis of Acute Myocardial Infar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ason we initially order a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Infarction is cell death secondary to ischemia- evidenced by coagulation necrosis or contraction band necrosis under  a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terestingly normal apoptosis does not cause measurable troponin lev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Pathologic Phase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Acute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First 6 hours coagulation necrosis.  After 6 hours there is PMN inv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Healing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can take up to 5-6 weeks with mononuclear and fibroblast inv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Healed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car tissue with no cellular infil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Classification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pontaneous AMI secondary to primary coronary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MI secondary to ischemia from increased oxygen demand or decreased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Classification of AM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dden cardiac death with evidence of ischemia but no bio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4a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4b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ent thromb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5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B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clinical suspi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K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biomarkers  (troponin &gt;0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of Acute 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% have no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c crescendo crushing chest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mfort in upper back, neck, jaw, tee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phoresis, SOB, nausea, vomiting or syn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 and diaphore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l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 heart s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 or S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hy or brad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 and hypo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G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STEMI</a:t>
            </a: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-new ST elevation at the J point in two contiguous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0.1mV in two contiguous anatomic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LBB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erior leads &gt;0.05 acceptable if high suspi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NSTEMI</a:t>
            </a: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-new horizontal or down-sloping ST depres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5mV in two contiguous leads and/or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inversion &gt;0.1mV in two contigu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s with prominent R w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the definition of a troponin l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diagnosis of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new classifications of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in detail mechanisms of Type 2 AMI and indeterminate tropon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significance of elevated tropon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G limitations/pit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ing of Q waves (acute or prior 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erior 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ST↓ V1-V2 and ST↑ later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Ventricular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4R ST ↑, ST↑ in later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 point ele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C:\Documents and Settings\HCMARTINEZ\My Documents\My Pictures\smily.jpg"/>
          <p:cNvPicPr/>
          <p:nvPr/>
        </p:nvPicPr>
        <p:blipFill>
          <a:blip r:embed="rId1"/>
          <a:stretch/>
        </p:blipFill>
        <p:spPr>
          <a:xfrm>
            <a:off x="2327400" y="950760"/>
            <a:ext cx="63435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hocardi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 data still being stud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helpful in early MI when troponins aren’t elevated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wall motion abnormality helps guide decision for immediate cardiac c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ways immediately available and requires further training of pers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troponins in initial evaluation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pretest probability of Acute Myocardial infarction secondary to coronary artery occlusion (Type 1) is high a positive troponin is very helpful and part of the diagnostic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pretest probability is low this can lead to unnecessary cardiac evaluation including cardiac cath (i.e. Type 2 AMI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14160" y="274320"/>
            <a:ext cx="67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thrombus Ischemia/Type 2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Increased Myocardial Oxygen Dem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chycar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in cardiac loading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cardiac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ocardial de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Decreased Oxygen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coronary per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reased systemic oxyge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 in setting of Type 2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2 AMI can be caused by increased demand in the setting of stable coronary artery disease (won’t necessarily be immediately improved by PCI/anticoagul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cause of Type 2 AMI might be contraindication to PCI or anti-coagulation but worth discussing risks/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negative cardiac cath rule out coronary artery dis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studies showing evidence of AMI on cardiac MRI despite negative cardiac c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Syndrome X-patients with symptoms of angina but normal cor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vascular occlusion can cause angina, EKG changes and cell death with normal cor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diac Syndrome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thelial Cell Dysfunction-reduced vasodilator or enhanced vasoconstrictor response to medications or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ic Dysfunction-increased sympathetic 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lt coronary artery disease-diagnosed by intravascula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pain sensi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uses troponin rel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eath- When myocytes are irreversibly damaged the cell membrane degrades releases the contents.  Some believe this is always the cause regardless of evidence of coronary artery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membrane permeability coupled with myocardial depressive factors-Degradation to smaller fragments that “leak” out-not completely underst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thrombotic causes of elevated tropon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464920" y="1589040"/>
            <a:ext cx="308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Demand Isch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chy or bradyarrhythm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itically ill pati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ypoten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ypovol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V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C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rns (&gt;25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Nonthrombotic Myocardial Isch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ronary vasospa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ute Stro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gestion  of Sympathomime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dis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valve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ical balloo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ndr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646600" y="1600200"/>
            <a:ext cx="3648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Myocardial Str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lmonary embol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reme exer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valve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Direct Myocardial Da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iltrative disea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lammatory diseases including myocardit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ug toxic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habdomyo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diac Trauma including surg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bril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Multi-factorial</a:t>
            </a:r>
            <a:r>
              <a:rPr b="0" lang="en-US" sz="1600" spc="-1" strike="noStrike">
                <a:solidFill>
                  <a:srgbClr val="d6ecf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al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s are a commonly ordered test in the Emergency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propriate interpretation of a positive or negative troponin is important in determining correct course of intervention (namely Percutaneous Coronary Intervention/anti-thrombotic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correlation is still very important in determining cause of an elevated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s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I is still the most helpful in distinguishing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T is more often elevated in asymptomatic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troponin associated with poorer prognosis at same G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of AMI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because many ESRD/CKD patients have co-morbid C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I more specific as both myoglobin and CK-MB can be falsely elevated with elevated G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dialysis patients have elevated CK but generally less than 3x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nd is very important in CKD patients for determining presence of new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Elevated Troponin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V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thelial dys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membrane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ired renal ex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tch mediated troponin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nce demonstrating stre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284004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ft Ventricular Hypertroph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ee of troponin elevation increases as degree of LVH increas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lt subendocardial ischemia from increased oxygen demand from increased muscle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flow reserve due remodeled coronary micro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t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20720" y="1600200"/>
            <a:ext cx="69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release via strain and cell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 correlation between BNP and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ll stress leads to subendocardial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eath secondary to RAS, sympathetic stimulation, inflammatory medi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ions associated with advanced 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Em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 to acute right heart st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resolves in 40 hours (more quickly then with ischemic heart dise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Hyperte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h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mixed venous oxygen sat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BNP ele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ly COPD exacerbations with elevated troponins have higher in hospital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depression secondary to circulating factors (TNF-a, IL-6, C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per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V dysfunction generally reversible and can be exacerbated by norepineph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to extent of burns rather than age or co-existing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seen when greater than 25-30% surface area is 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roponi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93520" y="1599840"/>
            <a:ext cx="63262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proteins that control the calcium-mediated interaction of actin and myo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sub-units Troponin T, Troponin I and Troponin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 in all muscle but our assays test for the cardiac specific troponins of I and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C not clinically 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balance of autonomic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sympathetic activity and cathecholamine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interpret secondary to high degree of co-existing C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 induced cardiomy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wise known as Takotsobu’s or Broken Heart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c apical ballooning seen on E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levels of circulating catechol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takotsobu.jpg"/>
          <p:cNvPicPr/>
          <p:nvPr/>
        </p:nvPicPr>
        <p:blipFill>
          <a:blip r:embed="rId1"/>
          <a:stretch/>
        </p:blipFill>
        <p:spPr>
          <a:xfrm>
            <a:off x="4667400" y="4633920"/>
            <a:ext cx="2114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myocardial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cont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D 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ltrative disorders (amyloidosis via compression of myocy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ose ch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tis or Myoperi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e response after cardiac transpla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9388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use of a positive troponin must be immediately classified for appropriate inter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ndeterminate troponin is not nor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causes of an indeterminate tropon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ll give an ASA if any suspi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ardless of the cause of elevation there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mortality/poor progn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udhary, Imran. ”Cardiac Syndrome X”. UTDOL updated 10/16/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bson MD MS, C Michael. “Serum Cardiac Enzymes in patients with Renal Failure” UTDOL updated 6/13/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nrich MD MACP, William L.  “Serum cardiac enzymes in patients with renal failure” UTDOL updated 6/19/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ffe MD, Allan S.  “Troponins and creatinine kinase as biomarkers of cardiac injury” UTDOL updated 6/19/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remias MD, Allen. “Narrative review:Alternative cause for elevated cardiac troponin levels when Acute Coronary Syndrome are excluded.  Annals of Internal Medicine. Vol 142. No 9. Pg786-7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nter MD MS, Shaun.  “A new, precise definition of acute myocardial infarction” Cleveland Clinic Journal of Medicine. Volume 76.  Number 3. March 2009. pg 159-16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Content Placeholder 3" descr="artichoke.gif"/>
          <p:cNvPicPr/>
          <p:nvPr/>
        </p:nvPicPr>
        <p:blipFill>
          <a:blip r:embed="rId1"/>
          <a:stretch/>
        </p:blipFill>
        <p:spPr>
          <a:xfrm>
            <a:off x="3849840" y="1420920"/>
            <a:ext cx="4020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Content Placeholder 3" descr="TnComplex.jpg"/>
          <p:cNvPicPr/>
          <p:nvPr/>
        </p:nvPicPr>
        <p:blipFill>
          <a:blip r:embed="rId1"/>
          <a:stretch/>
        </p:blipFill>
        <p:spPr>
          <a:xfrm>
            <a:off x="3062160" y="838080"/>
            <a:ext cx="488484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Content Placeholder 3" descr="ribbon troponin.jpg"/>
          <p:cNvPicPr/>
          <p:nvPr/>
        </p:nvPicPr>
        <p:blipFill>
          <a:blip r:embed="rId1"/>
          <a:stretch/>
        </p:blipFill>
        <p:spPr>
          <a:xfrm>
            <a:off x="3564000" y="701640"/>
            <a:ext cx="440856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I 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T was the first troponin used but now Troponin I is considered superior and the newer assays are very sensitive (can detect &lt;1g myocardial necro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0.05 is normal (At CCRMC our cutoff is &lt;0.07)*     &gt;99% of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0.05 - &lt;0.5 is indetermi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5 or greater considered suggestive of acute myocardial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test $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P (not just cool fish) ~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rule out ACS admits because of indeterminate troponins-price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ce of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positive troponi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66520" y="155592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clear standards for the interpretation of positive (&gt;0.5) in setting of high suspicion of coronary artery disease.  This leads to a protocalized approach with the common goal being early revascula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other hand there’s the gray area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leak-a common term oft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onymous with indeterminate troponin, or positive troponin secondary to a non coronary artery pathology cau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3:25:33Z</dcterms:created>
  <dc:creator>David</dc:creator>
  <dc:description/>
  <dc:language>en-US</dc:language>
  <cp:lastModifiedBy>HCMARTINEZ</cp:lastModifiedBy>
  <dcterms:modified xsi:type="dcterms:W3CDTF">2009-09-30T19:00:24Z</dcterms:modified>
  <cp:revision>100</cp:revision>
  <dc:subject/>
  <dc:title>What does an indeterminate troponin really mean?...other than another annoying 3am rule out  ACS admit</dc:title>
</cp:coreProperties>
</file>